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03E41B-2708-4A27-A9D0-CB0FDCCFC6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CB1513-BC52-420E-B287-67ED10E640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C18F86-BED4-4A19-8D04-D8E95ED33A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0CD981-7F4C-411A-BBC6-D0A9230B30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6423B12-F5DB-4BEC-A9AC-54F4F224CEE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BE7CE1-DEAC-43CA-847E-0472B23488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DCEDE6-88E1-49FB-BE40-BC75B389F6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E02C3D-C914-42CD-97A3-9328445D45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E41F78-B64D-4028-A9A5-48842957E7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BFBBB7-4965-4B5F-B391-6A84D4CB61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0CB3E8-6918-4CD4-B101-9E8C12D736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BE3799-D458-4EB5-9837-3E57F36E33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03CB95-254D-4C78-8836-CAFD9D5D6A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EF0A7E-1022-4139-B05C-0CBBF2B983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383B2F-4D0E-4235-B481-C85AF3F0C4A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2A0A817-156E-44C2-B47B-A093155ED3A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BDBA838-55FC-4AE9-AAA4-45867503C19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B2A7D8-DE90-48C5-BB9D-C7E172E997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4D4A07-6ADD-440B-A136-3ED5FE453E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C818F7-B808-4C70-B653-C741B5C697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D50F9A-EEE2-442D-AA2A-07F770970C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22D8C3-6F4C-4603-80F3-7266F175FF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C647D8-6204-4DBE-B636-101B4ADF78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6B7C04-21EA-42C1-8770-6FBF0ACB847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E02AE5-1AFA-4491-BEA6-A8C759B1A2D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0D9067-8F69-4D78-BCEA-4D9F0776C0F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F4D164B-21EA-45B8-B1EA-CA202B37570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A71869B-3D10-42E9-A198-69F7E0A03161}"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667C3E-0062-4F2B-9425-D901D339901A}"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A71C09-80F3-404D-96FD-E65EBCCCABB6}"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9ADACD-0A9F-4FFB-BC50-5C338AC1FB23}"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D15693-F4C2-426E-A3E6-972C9685DAEF}"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38F9CC-53DA-4E23-8C1D-0F7F83A7B6E0}"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294322-2DD5-4016-BD29-D2455D0B9AE0}"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394C6F-5350-4DB1-9DC8-181BA5880F12}"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38CEB2-4551-4585-BA20-13BBEF524520}"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29F9CF-87F2-4A63-8AEE-A08717AFC2CA}"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0B0335-E9AC-4B50-A809-5AD319B65441}"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271CA0-BEC0-4054-A136-E10AA4EEC74E}"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F385B7-DECB-4494-BCC9-0D9B22BC223C}"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D41883-C7B3-48F0-8CB5-4BA5080F3456}"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816A6F-DD20-4AD1-81CF-494386A968BE}"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175D5B-AEB0-42E5-86B8-C318A91A24D3}"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FDD6BC-D927-487B-AAEC-3C2310DD15EE}"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637460-D492-4511-A171-ACEB7D1239ED}"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884CE5-AABE-4197-9A08-2776B2044B4E}"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0B8B6E-F305-4370-8751-F1A42A69CA18}"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27F955-09F7-4376-B92D-A2ACCEC47221}"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92C98E-1C89-40C5-835F-0D4438762EF8}"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4F81F8-2E9F-4960-9E1F-E457ADBEAFB5}"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A528A5-9B99-4B93-B05B-63F0BF50236A}"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FE5E0C-3AC3-4BEC-A95D-C1B346FE1AF3}"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A4A1A9-53A3-41BC-9857-7F84816411F6}"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E993002-F240-4E17-81A2-9C38C8A2A5A1}"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DA22D1-7649-4768-BBAF-0D9002E59829}"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6C4045-7344-4214-BCF7-91FB45F13C31}"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2129ED-593B-4121-A4EC-366E932A2EF2}"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63264C-8068-421B-9CF4-C0A1DFD0F0E7}"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EE25B9-2DE6-4D70-8570-0E288E6A643D}"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393DEC-15B0-49B7-9E3A-6A21688840B2}"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945DAC-F7E9-4267-BA18-02ECA181AEE7}"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E5B565-F9E3-4679-9560-E31AB744695C}"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401B44-FE7D-4FC9-96A8-BE9BF292417C}"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8AC8F8-C65B-4108-970B-34ED5C458098}"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EE0407-F39D-49C1-9A03-4DDB9A1C42E3}"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1AFC09-1983-4565-B2D3-3022E4C9ADC9}"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749149-D3C0-40C9-89C0-55BC1EB52280}"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EC3A40-4DCE-4243-A438-17BAB45B8316}"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A1C66E-1E49-4508-8F69-38554B76B1EC}"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3C04FB-B0EA-46E3-93EA-B0F76B0A3B0B}"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7C86E5-BDE6-4A12-92B4-3EF18C3062E6}"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186264-EC53-4836-AD08-2E1DA6AF8C68}"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FB3722-DD5B-484F-84B5-8C27461149C1}"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D69A6C-B28D-44CF-853B-6F041F8329B0}"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D54E590-7398-4DFD-9A6C-8A8A4E2E1DA0}"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2EC80D-B486-4491-A363-A7FE8022EEB8}"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9DFDAC-8D12-4E64-9EF4-BA4E0B48F12E}"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F9D9470-7DAE-4B96-BB38-5C7E0E0EBD09}"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87B32B-BB92-4DE7-ACE0-28B6ED0E3FBF}"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27D36B-9140-47D8-A1F0-3DE5359B4287}"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F04F5D-2537-4E49-B737-9236A4B0FF2C}"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131EB3-3171-49F6-B7F1-4F55D5C8559C}"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C38C7E-956B-4929-B56C-3D8B54A69B63}"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7447CF-9FB6-4D9C-AAAB-88F5A77E75A9}"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D6C678-9EF5-4EEB-B87A-9A9F99E33C4F}"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A8B4213-9260-49E6-9AE6-14E9CFCF5F4B}"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61F2A7-9A2A-40A4-8008-F02209BDB858}"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931D15-A526-42A6-8727-192C3414A19A}"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161657-1020-417E-9E7C-E888A03C9202}"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4A50FD-AEF6-4D78-8C1D-D507C26F0B62}"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B72AC2-AC10-474C-9379-3A9DD804CFD6}"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08DCE17-3C81-44B8-B26D-4A4F9D1B5E09}"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0B2CDB-37F6-4FBC-86BC-1081FBC26E97}"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D41389-DCFB-44F7-B6D9-7BD33D3B6E4D}"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E13BF8-DF5A-4CAB-8ED1-DCECA6E2C1AD}"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A3079E-8EE3-47BF-8800-87DFF0A98EFF}"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4E9A1D0-2986-4959-9750-2D2C60A83138}"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A53719-41F4-42DA-92F5-7B59CB44281D}"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9923DE-82A3-4988-A2F5-FBFD933FBEB0}"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701977-1393-4F92-BBB6-3DE68F658495}"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B115C4-2D00-4076-B0CB-D9548C25FA63}"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CBAC8C-9F87-4406-A831-90B17A4EC1FE}"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08BF05-EEEC-46C5-9CC0-0BB324A506B2}"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6FA8146-1D9E-458A-A71A-C4FE22FB5281}"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79F19A-56C8-41B9-8E36-1754AA2590AF}"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F5E835-8000-4464-9CC0-62C9983D1BCC}"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59D1F4-14EC-4799-A45C-EE0872D802DC}"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94358E6-DFA5-4921-B6E7-7E6AE813FCC6}"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5DB477-A9AD-4B00-8501-B72D920A97ED}"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804AFF8-80A2-4BB8-8426-C2DF8ED0941D}"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3D089E-B39D-481C-A7B3-EB9320B4641C}"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1CFC37-A7EC-4A95-AEFF-BC1C0190D1E0}"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01C806-48BD-4530-A5EE-252D5486FDB1}"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E0618C-BCF6-40D8-B581-569C356053AD}"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B5DCDA-63DA-4323-A959-77913EA8F1F6}"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43886C-194E-416E-91D5-4C2EC043B3C5}"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597CC8-C93E-4238-8976-CE729911405A}"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5E268D-7AB0-4AE5-BF6F-43C130009190}"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2B008D-0AE9-40A8-9745-D030EC1723A1}"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36F75A-50DF-4AAE-AF5C-613CE7F3A53B}"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67313F-2ED4-45E6-B1F4-9212769FB6C5}"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D5D4E7-FBA7-4729-A0CD-18E62692402A}"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618E74-F287-47CD-A356-C93F67E6E967}"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E72850-E2AB-4A21-BD4D-DB75B39ECAD9}"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A4F4D6-54DF-45B5-B791-E4008135C0DF}"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073963D-E810-4391-A6CB-9F417646DA67}"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BF2E0C-FF36-4B0D-A9C8-F98FFBEEEE28}"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F07589-7055-4C4B-91A1-D27FFFCB3071}"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58430E-1DA2-4A05-B8AC-5CC9E8A276B7}"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A40582-C228-443E-A0A8-BDBD21BC12B1}"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D1963C-88FC-4F2E-AF90-A20445F2A26B}"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D08473-20B2-4B20-A7DC-97E84291FDF2}"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47D41E-E120-42B2-919C-D2EF38AFF5D3}"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276A33-916E-4FC6-B918-6A081943328B}"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C18666-1F90-498C-8BC3-20AA0F3BE3E6}"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A496E9-3DEF-4DF0-AF0F-3E7817279589}"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6D200E-4C18-4D09-8BA9-A6B9F6A99D58}"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9260A8-94E0-4F67-BC55-80FC72A8B4D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19A9E5-170E-4680-A136-D9850A3587A2}"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C6846B-BFDB-4666-8A1F-30A688FD8158}"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2A1519-B126-46CE-9FA2-ED4526D1A9DE}"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85AB42-A8FD-4452-AAA2-E8245C738B6E}"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71643D-A9CC-4F21-9498-CD7F86D84713}"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43D537-EAC8-45C3-B0DD-C591472B180E}"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577783-70BD-4600-B40C-1EBAA3C0BF95}"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93CB8C-7D8F-46C9-A65E-6312007DC0BC}"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6C1029-8C06-44A5-BAE5-E40951C84F09}"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3DD75C-CF22-40F7-AFAD-7C0052E8B7B5}"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DDD4ED-A0E3-4043-9889-BC680081027F}"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D1788A-1954-4725-A165-54BB6B308267}"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64C7A0-FBF5-45B4-BF0E-9172D843ABB9}"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333718-8B63-418A-A9EF-297B79D24D86}"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1C5CFF-CE22-4C6E-BD62-CDC7C75796AB}"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287EED4-28C1-449B-AE10-4926B9C7D140}"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03D4D6-BD44-45CD-9954-3A626B0A991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F211D9-384C-4960-BFCF-695DDCE92AA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D43AEE-D83D-40FF-B2F0-0BA0755F32F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947637-E611-4647-8D93-53993A2EEE3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58B2CE-E78B-422E-ADEB-4C1B6C05C23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4DB166-C449-486B-ADC0-1477526106F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5EC92C6-1043-4485-AF00-6FB4395A863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0D6307-3F62-4C84-B177-F6624709475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90AAE6-7CA9-45C6-B916-9AF1F21A99F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717B63-2C6F-428C-8241-5C875B7929B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4413E8-3DED-49B3-B03A-AF7A84FF7EE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24A763-504E-4623-8DBB-9CF65FD331C3}"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BE4B28-2D55-471D-BE11-1F55BD05FC7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E5D9AB-689A-4515-94E8-62E00097431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3A9D1B-F11E-4156-86BF-949E73F6A6E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D0D7FD-DF1C-4BB3-A08B-901A5BEED1D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9A0FA9-964C-40E9-874A-842D56CA0CE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013DF9-B38E-4676-A1F6-7DB8927F8ACA}"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824EAD-1B59-473A-BAFC-8A246FB4D198}"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B4246B-AF54-492B-A857-9B098336DDEF}"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81502E-D0F0-4A32-B601-170DC7B2493D}"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7489AC-0058-411C-A4BF-0AD1615EF5A9}"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631A29-22EC-4E28-9343-E632D43D64D8}"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A91745-1EB5-4B0E-87A5-661C1BD1BBEF}"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C56C49-5715-48BB-8194-EB926CD8ABD4}"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F35851-D097-4321-BD2B-A671CD27577C}"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AA8337-EBB8-40D8-83BC-5CE6B6475CD5}"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F10DAF-3C9A-4B96-A8A4-43A62962594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FB58CD-8201-493E-8CA8-8707A7DD3364}"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F519E5-2F71-44B8-A884-47BAE82B57F7}"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F117BC-F98C-4B6A-936C-457AF1D5E75F}"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DD0EA7-977C-4395-9BEB-4F8F0ECCAD5C}"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7EC416-C4EF-4404-9A2A-DF59D8564DD2}"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5D1624-7186-4589-8E31-A67BE3BE02AD}"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9C6BB2-60CB-4608-9220-DED6FC0D8D28}"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7E39DC-FCF7-415B-BC06-4D33E18D6CE5}"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1101CB-9151-475E-B033-E5CB21BD5517}"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31A364-B0B2-477C-9625-E6AE16DBEA01}"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A200AA-7BC4-4F8E-B4AD-2567026D5F9B}"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A9E550-BC81-4D9B-9EFA-53B1D449B825}"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AC44A6-AC6F-444A-B065-DAC389A75C4C}"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49247F-5D9A-41E0-BC23-8F62D6104FF5}"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2CA6BF-1591-4A8A-95C8-E3698EFFF9A8}"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260BA3-1300-4386-A1A7-32F9ED4E2704}"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E6120A-FE62-4882-8FA0-8249AC82FD7E}"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C72204-C067-4AA8-B220-8DC338EBB222}"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20999F-68FB-4DE1-8D1F-12AB58A8C422}"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B7AB862-B9FC-47E8-9EF0-4975FEA6A386}"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45455C-3072-4CC9-ACEE-5F302FBC0E3C}"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6D5816-A6CE-468B-817D-B33603439BFE}"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8714F3-1049-4E21-BB0E-E488F4647DD1}"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CCD164-5F37-49DD-8319-8B80C08D7F6A}"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0EBE26-51A5-4B14-90E0-B84286DAD528}"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95F84F-7285-4C54-8A79-69EA56F4BDCB}"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2B55F0-A390-4176-8070-E5690FFF7236}"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E5CD54-41A5-4746-A08C-A1AA33806EA5}"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E4E5162-1BE5-43F9-B43E-8143143735ED}"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795E6D-5CF0-4ED0-B70F-B19A9CA038EE}"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96BAF6-DC36-4954-9191-F4CF7D340025}"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C8B7A1-CB05-4C97-B2A6-0F8D2D277CB6}"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E00FFE-8571-4929-B8E6-E3ACA6CCA616}"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564860-4B82-4E1B-BFCA-80F30EC1BAFD}"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DB216C-A00B-49DE-8813-924612B17258}"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4E8A1C-5B44-4ADD-B1FA-B7D724A993C8}"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CB1C7C-E5C0-4DC1-8742-2C995417DFAD}"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8A493F-5AC4-40F0-AB3D-88A135C4F8F8}"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D3ED28-47CC-4C49-A2A8-869EB9A0ED76}"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D17E37-0D9F-400A-B4DF-6784EE67DD91}"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743DE3-460B-4D3A-BD25-1C8DC55E31EB}"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BFA35E-6B77-4FB6-A321-381D22E16FF6}"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918D7D-D8EC-4B1A-A339-C861202FD925}"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C1EC4F2-DD23-405A-AC24-CDCDE5F90E85}"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5A9927-9108-4EB7-8275-863E73CEC45C}"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E7DF9F-3789-4DA3-8907-6218DBF37212}"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371237-B371-472F-A5B9-73BAC7A5AA52}"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003D31-6C33-4ED7-9DCF-7F228107700D}"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B885FC-FC9B-43FE-B5AC-9773F40D082E}"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8BFE8A-07C0-4699-8D86-EBC63F400D17}"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91DA8E-AE3E-40B9-B139-6031E6EA55E1}"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C0AD99-420C-4C4C-BE77-BF7C06FF9746}"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D587DD-0714-41D5-BFC1-C2F47D542C11}"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4BF4FE-A1EE-432C-8BFB-34DD6F07A627}"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029EC1-F1DD-4AF9-AD35-D663BF578CD3}"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2B4A51-B381-41D4-BF06-1CD45FB3C648}"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910C2B-6CFD-4DBE-A3CB-284520C6A462}"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