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299334"/>
        <c:axId val="66808987"/>
      </c:barChart>
      <c:catAx>
        <c:axId val="852993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808987"/>
        <c:crosses val="autoZero"/>
        <c:auto val="1"/>
        <c:lblAlgn val="ctr"/>
        <c:lblOffset val="100"/>
        <c:noMultiLvlLbl val="0"/>
      </c:catAx>
      <c:valAx>
        <c:axId val="668089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2993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FF6E-B819-446A-B008-77EE12347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1BD9-2953-4B72-96C4-19C0B6483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E077-AF40-4F65-91C5-863E61D12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675D-B9A0-46C5-9298-832220977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7F9A-C069-4E80-9B33-24BEA3566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6493-65C3-44AF-BF4A-BD1B009DA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1E2B-A9AC-403C-A527-7BCF25FA1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D4DF-C5FB-4D21-A6F0-02D01248B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05AD-DFE7-4DAF-BA6C-ACCE789B5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B9C5-A09B-4466-8945-E7272C8A3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1BE5-3973-4297-80D4-20EC951EA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969E-9572-4726-8DF5-4C1C80202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2DDF0E-168A-435A-BB36-A3F8D77D431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