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2401394"/>
        <c:axId val="81835235"/>
      </c:barChart>
      <c:catAx>
        <c:axId val="424013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35235"/>
        <c:crosses val="autoZero"/>
        <c:auto val="1"/>
        <c:lblAlgn val="ctr"/>
        <c:lblOffset val="100"/>
        <c:noMultiLvlLbl val="0"/>
      </c:catAx>
      <c:valAx>
        <c:axId val="8183523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4013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5E7-1588-4AF1-9796-8EDD88DCE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CA8-EB78-4697-8DFF-4E968674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70EB-93F3-4029-B043-F95379B95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7B5-207E-4BEE-BD54-93D68B1BF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BB75-1418-4F00-B218-A399F4966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8AA8-ABA3-4C22-90F6-F023316C3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C28-B5D6-4B62-B7C4-CFE0B4D3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46E-A323-4E05-AC5F-133F7D258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7CFAA-8C2A-418E-BDD7-CD71B12E8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7C0-CCD5-4096-8F10-97144AD1D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8EE5-A3E2-48C3-8A12-37A417BD3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E3EC-D082-4B61-A5F8-107E99EAB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D29EAE-9F0D-4245-BED2-A03B2A58C29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