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16144"/>
        <c:axId val="29280610"/>
      </c:barChart>
      <c:catAx>
        <c:axId val="75716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80610"/>
        <c:crosses val="autoZero"/>
        <c:auto val="1"/>
        <c:lblAlgn val="ctr"/>
        <c:lblOffset val="100"/>
        <c:noMultiLvlLbl val="0"/>
      </c:catAx>
      <c:valAx>
        <c:axId val="29280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16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EDF-F943-424F-BA57-BEECD196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4D2-9650-49A5-83F0-2117F201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7BF-DB9C-490E-B9E9-AB1D7C42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6BA-6A65-46AB-812F-34068EB9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CB5-00E6-4693-817E-3A528316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40E-7B99-493C-84F7-56CB9893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2A5-8E3C-4879-B326-901F3C0C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02D-2CE7-4A62-88ED-586DDF65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EC1-6798-4B5E-AA2E-ACB604E8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2CA-CC75-4889-A8F8-84933724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DDB-98E0-4B37-84E4-1067687A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21E-C3E7-4AEE-AF37-E3A42794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BB08F-D752-41AF-B9A5-E953C81A99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