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73808"/>
        <c:axId val="47608387"/>
      </c:barChart>
      <c:catAx>
        <c:axId val="69773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08387"/>
        <c:crosses val="autoZero"/>
        <c:auto val="1"/>
        <c:lblAlgn val="ctr"/>
        <c:lblOffset val="100"/>
        <c:noMultiLvlLbl val="0"/>
      </c:catAx>
      <c:valAx>
        <c:axId val="47608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3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82C-E4A0-4805-B8AD-AF92B047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F2F-D6EA-4CA1-A831-AF49DE3E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CC3-68D0-4659-ACBD-FE272B77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535-30C8-44E2-B16E-AFD403A3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550-0A1A-4CD4-A1A6-86EBBE3F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47A-F6C8-454E-8AB1-68D66F6F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D47-80A2-42DE-8965-74936BC7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AAD-B224-4FCC-9B64-5350C65D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82E-0B38-4CEA-B830-812D8FA6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F42-26DF-4432-96D5-30117A76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B94-3DF5-4D72-9D4C-06DCA4E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DAC-2E3A-4977-BFC5-CEB0CA38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5647F-F185-4012-9A60-9C68738EE1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