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46872"/>
        <c:axId val="72931121"/>
      </c:barChart>
      <c:catAx>
        <c:axId val="29546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31121"/>
        <c:crosses val="autoZero"/>
        <c:auto val="1"/>
        <c:lblAlgn val="ctr"/>
        <c:lblOffset val="100"/>
        <c:noMultiLvlLbl val="0"/>
      </c:catAx>
      <c:valAx>
        <c:axId val="72931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46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AB5-507C-47E1-BDC5-32E4811A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09A-0B58-475F-8443-53CB6C8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BE1-4A72-4840-B071-57E6D3ED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459-174F-49E0-A89F-266C433D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E06-D6A7-4EFC-B174-EB79527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B78-EA69-4446-AB11-BC4DD7B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BC5-0D97-4E23-90D1-03028D4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7C9-591F-4299-A4E4-D369920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05F-706B-4731-95F4-1AED0731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18A-9060-425E-821D-46FBAC2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108-E462-4559-B97C-E1C06942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CF9-55AF-4284-BA1E-A65DC44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F340-30A5-47E7-9849-2136A977BF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