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23791"/>
        <c:axId val="2900508"/>
      </c:barChart>
      <c:catAx>
        <c:axId val="48523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0508"/>
        <c:crosses val="autoZero"/>
        <c:auto val="1"/>
        <c:lblAlgn val="ctr"/>
        <c:lblOffset val="100"/>
        <c:noMultiLvlLbl val="0"/>
      </c:catAx>
      <c:valAx>
        <c:axId val="2900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3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F73-D41D-4C26-BC94-A7C690D8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6DE-2CB8-4706-B20A-6C32ABD9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988-488B-45A7-97A1-D9E25F08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492-F465-4FFC-B2E2-A6D8CE63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05F-7BEE-4E8E-9236-7CD45491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2FD-80C7-4C94-B900-7C20167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067-1BDE-40D6-AEC5-854DD94E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52C-DDE8-490B-9A6D-F7F4990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026-ADB4-49FA-922C-8B716376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EBA-5B59-4243-9D9D-43A2A70F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DC1-B879-47A4-91B9-261965B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45E-E7AD-4AF3-AA18-6EE6ECD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6E366-F349-4268-9F73-24521CFF02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