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03272"/>
        <c:axId val="92509356"/>
      </c:barChart>
      <c:catAx>
        <c:axId val="28703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09356"/>
        <c:crosses val="autoZero"/>
        <c:auto val="1"/>
        <c:lblAlgn val="ctr"/>
        <c:lblOffset val="100"/>
        <c:noMultiLvlLbl val="0"/>
      </c:catAx>
      <c:valAx>
        <c:axId val="92509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3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59F-3C2B-4C5C-BCF7-19C6C43D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4C4-30DF-4CBD-B815-61B1A497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E33-DD97-4F3C-8BE6-194FF010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B83-96A3-4FED-AC4A-BD02D958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64C-D5BD-454A-9517-40B0F61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67A-189E-4EA8-B320-C4850B3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65F-44B9-4E57-903C-B8311AD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4D8-D48F-43A9-AF8C-47F03721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DAC-B143-459C-B6D2-74A03CA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7E5-EC39-48B7-84AA-22F927E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904-48A0-4DED-963F-F840F06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013-094A-4D93-88BB-0ADD238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91DEF-9FC2-4643-9BB2-C001DBEF5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