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05162"/>
        <c:axId val="2395894"/>
      </c:barChart>
      <c:catAx>
        <c:axId val="88005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5894"/>
        <c:crosses val="autoZero"/>
        <c:auto val="1"/>
        <c:lblAlgn val="ctr"/>
        <c:lblOffset val="100"/>
        <c:noMultiLvlLbl val="0"/>
      </c:catAx>
      <c:valAx>
        <c:axId val="2395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05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EBA-59D2-4BB3-AA23-282F850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E77-370F-4BB1-87C6-88EA91B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4AE-D664-458F-ADE4-771B741A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460-9889-426F-8EDE-C1551B61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2DB-ACF5-441D-B1D4-03EAC35F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48D-BCCF-4C47-8148-04A740C2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A2E-191E-4841-81F5-B7F9C44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9B7-8B1D-4D21-B5CD-892D4A4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C6C-9B74-469A-B84C-EA51DFFF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97E-C9B0-47EE-949E-9FDAA1D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C94-DB62-4B0D-8092-A54CA32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568-6F79-46CF-8EF1-D3050F0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A0490-2270-4BDD-A899-C1B6088B3A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