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172615"/>
        <c:axId val="16541978"/>
      </c:barChart>
      <c:catAx>
        <c:axId val="27172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41978"/>
        <c:crosses val="autoZero"/>
        <c:auto val="1"/>
        <c:lblAlgn val="ctr"/>
        <c:lblOffset val="100"/>
        <c:noMultiLvlLbl val="0"/>
      </c:catAx>
      <c:valAx>
        <c:axId val="16541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72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E2D-C1BB-4C47-BC99-45567EB5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23B-A0B0-420C-9106-33850EC5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247-EDE2-47C8-A59F-D5D2615E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578-0866-4C68-A0C7-E0CC5FC3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2A7-B79D-4536-8FD4-667999E5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082-66BA-449B-B637-9F980513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F85-57A9-4010-9A56-52D7452E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64E-E7C0-4202-B2FA-CFFD6A18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FD0-7106-4006-AEFB-225BB76B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C1D-CBFE-4814-B1DF-F3E23FF0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D37-AE74-4C89-A783-E97C975F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FA3-8ED8-4E8D-9920-7E754AD7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4E3F7-B208-41EF-8ED1-F249492711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