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38393"/>
        <c:axId val="73249931"/>
      </c:barChart>
      <c:catAx>
        <c:axId val="928383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49931"/>
        <c:crosses val="autoZero"/>
        <c:auto val="1"/>
        <c:lblAlgn val="ctr"/>
        <c:lblOffset val="100"/>
        <c:noMultiLvlLbl val="0"/>
      </c:catAx>
      <c:valAx>
        <c:axId val="73249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383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45B-5015-403C-80E8-E348A54C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A54-841F-4E0A-829D-AF9D676E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B14-5561-40E5-8440-AE77154F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5C1-CED6-4701-8DE8-CFCEDE6B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5829-C1E6-420C-9A21-4B799F83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8E8-AB0E-4B2B-997B-D520DF7C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CAE-F3D9-4610-83CF-7946D389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E40-FE8D-4DAD-A909-C9D0EC21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6BC-D931-4BF5-8A76-4F879B7D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C6F-E6F1-43AA-BB5C-43458AAC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758-CBE3-4E23-A262-8CB1C67C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912F-9977-4CD7-8456-3E9EBB95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5F359-73EF-42AE-9B8E-41352A15E4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