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26288"/>
        <c:axId val="8773663"/>
      </c:barChart>
      <c:catAx>
        <c:axId val="41326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3663"/>
        <c:crosses val="autoZero"/>
        <c:auto val="1"/>
        <c:lblAlgn val="ctr"/>
        <c:lblOffset val="100"/>
        <c:noMultiLvlLbl val="0"/>
      </c:catAx>
      <c:valAx>
        <c:axId val="8773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26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97A-F506-4429-87BA-2A88EEFC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F0E-334A-45BF-9018-CDA83C2E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F05-58ED-43D1-9053-08D86198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641-74BC-43F3-B4F8-6997E608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7AC-212E-4341-AD41-EA69D526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A07-7958-4247-BE73-B31FF37F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3BB-707D-4F3C-A0D2-E7E8A036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5ADC-80F2-44DF-BD03-857C4635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13B-235A-4D2A-AB29-AD9E2CA4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7CE-EA37-48FF-9CDF-BE8D5E50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A60-F43C-49D3-9CA3-6F5F3006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A88-3A3A-4574-9514-12198959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9DB23-A41C-4C7B-9187-B17B8D7F91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