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626461"/>
        <c:axId val="57997962"/>
      </c:barChart>
      <c:catAx>
        <c:axId val="366264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97962"/>
        <c:crosses val="autoZero"/>
        <c:auto val="1"/>
        <c:lblAlgn val="ctr"/>
        <c:lblOffset val="100"/>
        <c:noMultiLvlLbl val="0"/>
      </c:catAx>
      <c:valAx>
        <c:axId val="579979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264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C003-2428-4A0C-BC5D-C54B9EC1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7F1F-1ED6-4E78-AC03-D5BBB544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6DAB-F5E9-4D5D-817E-3CD1CD30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55FA-1599-4CB9-9C92-9671481D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5E87-3AE1-4616-8A68-3D4D0EF8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9C28-8B09-44C5-AE2E-59E09C9B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9A06-1CA1-4E96-BFAF-1995EAD6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644C-84B4-4FE0-9AD4-CA704E5D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62F2-D439-48BC-B902-86AD698E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307E-347E-4BF6-B580-22E0A3B5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547D-160A-48DD-B117-C5AA5D3E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C038-A70B-4AC8-A098-D7EE7761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1078A-8643-4ED4-A6B3-EAA7E1BA4F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