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900545"/>
        <c:axId val="89008439"/>
      </c:barChart>
      <c:catAx>
        <c:axId val="149005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08439"/>
        <c:crosses val="autoZero"/>
        <c:auto val="1"/>
        <c:lblAlgn val="ctr"/>
        <c:lblOffset val="100"/>
        <c:noMultiLvlLbl val="0"/>
      </c:catAx>
      <c:valAx>
        <c:axId val="890084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005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98C9-7561-4429-BBF9-9B7FF203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444E-FE54-4A73-8E0F-2FC7A041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A998-7DA8-41A4-BEC1-8FA1B9E9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6C01-D13B-4048-AFD0-8C4FFE66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654-8F80-4B97-9861-BCC5E7E7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6F6B-FADD-4CDC-8B4C-ACCC9F48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4CAD-3CF5-4B37-ABCB-D3890467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74F-6BDC-4D4A-B157-97D943C3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B85E-D4FB-4A8B-802C-C798A63D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51D-7A2D-4A57-9FFA-692FDDA2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1C58-3506-4CE8-8427-B3254CF4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40DE-8BE8-42A1-974C-670C47BB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F8DCD-49BA-4645-B3ED-7611223826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