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4272"/>
        <c:axId val="5000938"/>
      </c:barChart>
      <c:catAx>
        <c:axId val="3714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0938"/>
        <c:crosses val="autoZero"/>
        <c:auto val="1"/>
        <c:lblAlgn val="ctr"/>
        <c:lblOffset val="100"/>
        <c:noMultiLvlLbl val="0"/>
      </c:catAx>
      <c:valAx>
        <c:axId val="5000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4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509-17BA-4096-822B-49EF22E7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76E3-5F78-4D1A-A30F-17F032FF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DE5-B8A8-46AC-A61A-B9FBF326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F78-6581-4A6A-A627-D3995814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E15-03F6-4CF2-A7C0-2B6362C6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D2C-3E20-41D5-842D-25357757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D87-F328-4612-8295-2027AF79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293-DED0-4E37-B4ED-7FF74933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9EB-5802-4ACD-A8DB-6871CCCA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EF0-702D-455A-A43B-83DA2822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974B-F303-4914-9B5F-8FC84885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346C-4F90-4C1C-A472-D5B8F5FD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9F78B-9ECF-4128-8702-015EA2BCAB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