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0865"/>
        <c:axId val="34733625"/>
      </c:barChart>
      <c:catAx>
        <c:axId val="8020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33625"/>
        <c:crosses val="autoZero"/>
        <c:auto val="1"/>
        <c:lblAlgn val="ctr"/>
        <c:lblOffset val="100"/>
        <c:noMultiLvlLbl val="0"/>
      </c:catAx>
      <c:valAx>
        <c:axId val="34733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0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F75-2391-44F5-9593-BD960FB2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6D3-72C4-422C-9388-6443BA3D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1BC-DB6A-4B42-9C4B-7D70078D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2AE-35B8-4EB6-BB54-71A661EB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065-894D-4F9C-B739-822512D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FE8-DEDD-4312-A19F-9C97EC1E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144-659A-4938-B6B2-F20EF79D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43F-A6FF-470C-9CCD-7A94EBEC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093-56AB-493B-8EAC-DD7D815F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71C-52A8-40FA-8F3E-22A4153D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A30-9793-4E5B-AA07-B5BF8349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46F-0D67-4D93-960E-6A47D72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4B32C-EC4D-4E3C-BC60-1888D8E141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